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67B-BEDD-4F5E-B2D5-1AC48965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484-B651-4DE3-89E3-CC031282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022-40B3-4B96-92BE-6A60CB00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DC49-09FA-4328-AFD8-96ACC6B6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0E7-D403-4105-AA1A-34B56E0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877-12B8-4CCA-89A0-3D75AEF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4FD-8901-4725-BC3E-719BDEB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67F-5A5C-4E73-8926-91E8C859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E79-129D-47A6-9448-23892844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10C-E7C9-4613-80D7-4B3F674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ED1-0E1B-45BB-89B2-253ADCDE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27A-B4ED-47BA-9A97-97555704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4217-1DDE-4B3F-8FE8-A58DE164A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arrysclipart.com/barrysclipart.com/showphoto.php?photo=17762&amp;size=big&amp;papass=&amp;sort=1&amp;thecat=18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19360" y="3808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Rat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16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43400" y="2616120"/>
            <a:ext cx="4800600" cy="4241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172040"/>
            <a:ext cx="426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Scal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Maps and Scale Diagrams is an important life skill.  The key is understanding rati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p or architectural drawing uses scales or ratios.  This means that they are an exact smaller version of the real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knowing the scale, a map or drawing cannot be interpr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200400"/>
            <a:ext cx="32734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754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228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ce the scale of the map.  With this kind of scale, you can use a ruler and compare it to the scale, to find out approximately how many miles or kilometers it is fr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lace to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5867280"/>
            <a:ext cx="1600200" cy="609840"/>
          </a:xfrm>
          <a:prstGeom prst="ellipse">
            <a:avLst/>
          </a:prstGeom>
          <a:solidFill>
            <a:srgbClr val="80008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791320" y="4571640"/>
            <a:ext cx="609480" cy="6858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601992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57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 to the scale.  Make an estimate from the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05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with a ruler the distance from one plac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90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2133720" cy="3660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this method, estimate the distance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 Falls to Hart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iestown to Doakt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int John to Frederic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lhousie to St. 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054760"/>
            <a:ext cx="2133720" cy="17974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times we use the expression, “as the crow flies” which means a straight line.  Find the distance “as the crow flie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4114800"/>
            <a:ext cx="631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97080" y="6437160"/>
            <a:ext cx="47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atio,  what is the scale of this diagra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scale of the house plan, calculate the area of each 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7391520" cy="5103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971800"/>
            <a:ext cx="313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unt the number of blocks in the bottom right bed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et up a rat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 :1  = </a:t>
            </a: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13 : </a:t>
            </a:r>
            <a:r>
              <a:rPr b="1" lang="el-GR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4572000"/>
            <a:ext cx="44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write as fractions and 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 = 3.25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277920" y="601992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Rewrite as a fraction and cross multi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 = 3.25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14600"/>
            <a:ext cx="2438280" cy="916920"/>
          </a:xfrm>
          <a:prstGeom prst="rect">
            <a:avLst/>
          </a:prstGeom>
          <a:solidFill>
            <a:srgbClr val="333399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length x wid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3.25 m x 3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10.5625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56386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7086600" y="3809880"/>
            <a:ext cx="0" cy="18288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60" y="1676520"/>
            <a:ext cx="210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e scale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 blocks : 1 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30120" y="5294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72920" y="45324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080" y="5334120"/>
            <a:ext cx="491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w do the same for the length of th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4 : 1 = 13 : </a:t>
            </a:r>
            <a:r>
              <a:rPr b="1" lang="el-GR" sz="1800" spc="-1" strike="noStrike">
                <a:solidFill>
                  <a:srgbClr val="cc0000"/>
                </a:solidFill>
                <a:latin typeface="Arial"/>
              </a:rPr>
              <a:t>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054440" y="6361200"/>
            <a:ext cx="45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he scale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blocks  : 1 m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095880" y="6172200"/>
                <a:ext cx="22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791320" y="62485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3120" y="65214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96640" y="304920"/>
            <a:ext cx="265860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Help with Lounge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64120" y="1295280"/>
            <a:ext cx="693360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the lounge into two rectangles and then add the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289548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286000"/>
            <a:ext cx="1143000" cy="33858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 the blocks across the room and set up a ratio using the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362320"/>
            <a:ext cx="327636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73360" y="2514600"/>
            <a:ext cx="1285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b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352680" y="2438280"/>
                <a:ext cx="908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468080" y="2971800"/>
            <a:ext cx="175644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5720" y="3505320"/>
            <a:ext cx="99324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5 m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20720" y="1905120"/>
            <a:ext cx="86220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37040" y="2627280"/>
            <a:ext cx="1235160" cy="146556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 the same for the length of th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362320"/>
            <a:ext cx="0" cy="27432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400800" y="3048120"/>
                <a:ext cx="8874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116040" y="4267080"/>
            <a:ext cx="1756440" cy="3682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74640" y="4687920"/>
            <a:ext cx="1202040" cy="3682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4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11800" y="4038480"/>
            <a:ext cx="1179000" cy="36828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.2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105520"/>
            <a:ext cx="7372440" cy="1067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have now found the length and width of this part of the ro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 = Length x Wid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 = 5 m x 4.25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a = 21.25 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9360" y="4648320"/>
            <a:ext cx="1911960" cy="36828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= 21.25 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8880" y="24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2560" y="2895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4068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7000" y="3048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1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2971800"/>
            <a:ext cx="0" cy="228600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2133720"/>
            <a:ext cx="1616040" cy="31114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do the same for this part of the lou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you find the area, you add the two parts to find the total area of the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2971800"/>
            <a:ext cx="1981080" cy="0"/>
          </a:xfrm>
          <a:prstGeom prst="line">
            <a:avLst/>
          </a:prstGeom>
          <a:ln w="5724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9718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02360" y="2362320"/>
            <a:ext cx="1221480" cy="3682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4320" y="4343400"/>
            <a:ext cx="1143720" cy="36828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410080" y="1219320"/>
                <a:ext cx="12193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86400" y="3200400"/>
                <a:ext cx="10666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700560" y="5791320"/>
            <a:ext cx="8009640" cy="36828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length and width of the room using ratios and use A=Lx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7560" y="6400800"/>
            <a:ext cx="93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add the two parts of the room to get the area of the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vanced Skil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If the walls are 1.3 meters high, and you ignore doors and windows, how many cans of paint will it take to paint the three bedrooms if 4 litres of paint are required to cover 9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 Remember that you cannot buy cans of paint smaller than 4 litr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How much will it cost if a 4 litre can of paint costs $35.9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9113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1:45:23Z</dcterms:created>
  <dc:creator>admin</dc:creator>
  <dc:description/>
  <dc:language>en-US</dc:language>
  <cp:lastModifiedBy>admin</cp:lastModifiedBy>
  <dcterms:modified xsi:type="dcterms:W3CDTF">2007-12-03T21:25:24Z</dcterms:modified>
  <cp:revision>16</cp:revision>
  <dc:subject/>
  <dc:title>Scale Ratios </dc:title>
</cp:coreProperties>
</file>